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7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C142-FF84-48E9-933F-BB0B2E7EB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F127-2A10-4734-B598-74D74C6E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5EF4-57F8-4589-98E7-68099AE4C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34EF-9E04-473C-859D-5571819B7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1D88-93CF-478F-B54F-70DF87FE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8154-C29D-4117-8425-DACB6530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3D78-4E6C-4F6F-AC3A-082C4DA0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BD17-4C82-4621-8F1F-B267880F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7DEC-7F46-4004-B6BE-4074FAF7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4732-AB49-44CC-97CB-60265B3E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2277-BB9E-479B-8C92-EAD46E11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1B89-64B0-4555-A155-B5E42A96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A249-B245-4BF9-B56D-B66B1465162A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042920" y="1125360"/>
            <a:ext cx="71294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haroni"/>
              </a:rPr>
              <a:t>צבע אדום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haroni"/>
              <a:ea typeface="Aharoni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611280" y="5516640"/>
            <a:ext cx="7775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Guttman Yad-Brush"/>
              </a:rPr>
              <a:t>אומר לך משהו?!?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Guttman Yad-Brush"/>
              <a:ea typeface="Guttman Yad-Brus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woman"/>
          <p:cNvPicPr/>
          <p:nvPr/>
        </p:nvPicPr>
        <p:blipFill>
          <a:blip r:embed="rId1"/>
          <a:stretch/>
        </p:blipFill>
        <p:spPr>
          <a:xfrm>
            <a:off x="1865160" y="0"/>
            <a:ext cx="514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gezegen"/>
          <p:cNvPicPr/>
          <p:nvPr/>
        </p:nvPicPr>
        <p:blipFill>
          <a:blip r:embed="rId1"/>
          <a:stretch/>
        </p:blipFill>
        <p:spPr>
          <a:xfrm>
            <a:off x="0" y="304920"/>
            <a:ext cx="9448920" cy="941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ugurlar"/>
          <p:cNvPicPr/>
          <p:nvPr/>
        </p:nvPicPr>
        <p:blipFill>
          <a:blip r:embed="rId1"/>
          <a:stretch/>
        </p:blipFill>
        <p:spPr>
          <a:xfrm>
            <a:off x="-457200" y="-422280"/>
            <a:ext cx="10515600" cy="819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kurdele"/>
          <p:cNvPicPr/>
          <p:nvPr/>
        </p:nvPicPr>
        <p:blipFill>
          <a:blip r:embed="rId1"/>
          <a:stretch/>
        </p:blipFill>
        <p:spPr>
          <a:xfrm>
            <a:off x="-533520" y="-380880"/>
            <a:ext cx="10211040" cy="77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1042920" y="1125360"/>
            <a:ext cx="71294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haroni"/>
              </a:rPr>
              <a:t>צבע אדום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haroni"/>
              <a:ea typeface="Aharoni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1619280" y="5013360"/>
            <a:ext cx="633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uttman Yad-Brush"/>
              </a:rPr>
              <a:t>בשבילנו זה סתם צבע אדום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uttman Yad-Brush"/>
              <a:ea typeface="Guttman Yad-Brush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1042920" y="1125360"/>
            <a:ext cx="71294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haroni"/>
              </a:rPr>
              <a:t>צבע אדום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haroni"/>
              <a:ea typeface="Aharoni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826920" y="4869000"/>
            <a:ext cx="74901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Guttman Yad-Brush"/>
              </a:rPr>
              <a:t>בשבילם זה </a:t>
            </a: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Guttman Yad-Brush"/>
              </a:rPr>
              <a:t>10</a:t>
            </a: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Guttman Yad-Brush"/>
              </a:rPr>
              <a:t> שניות לתפוס מחסה!!!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Guttman Yad-Brush"/>
              <a:ea typeface="Guttman Yad-Brus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2"/>
          <p:cNvPicPr/>
          <p:nvPr/>
        </p:nvPicPr>
        <p:blipFill>
          <a:blip r:embed="rId1"/>
          <a:stretch/>
        </p:blipFill>
        <p:spPr>
          <a:xfrm>
            <a:off x="539640" y="549360"/>
            <a:ext cx="2881440" cy="2252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4"/>
          <p:cNvPicPr/>
          <p:nvPr/>
        </p:nvPicPr>
        <p:blipFill>
          <a:blip r:embed="rId2"/>
          <a:stretch/>
        </p:blipFill>
        <p:spPr>
          <a:xfrm>
            <a:off x="3780000" y="2781360"/>
            <a:ext cx="4906800" cy="3713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3"/>
          <p:cNvPicPr/>
          <p:nvPr/>
        </p:nvPicPr>
        <p:blipFill>
          <a:blip r:embed="rId1"/>
          <a:stretch/>
        </p:blipFill>
        <p:spPr>
          <a:xfrm>
            <a:off x="1332000" y="538200"/>
            <a:ext cx="6696000" cy="56005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1187280" y="0"/>
            <a:ext cx="691380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+mn-cs"/>
              </a:rPr>
              <a:t>גיבורי שדרות-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+mn-cs"/>
              <a:ea typeface="+mn-cs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+mn-cs"/>
              </a:rPr>
              <a:t>תמיד איתכם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+mn-cs"/>
              <a:ea typeface="+mn-cs"/>
            </a:endParaRPr>
          </a:p>
        </p:txBody>
      </p:sp>
    </p:spTree>
  </p:cSld>
  <p:transition spd="slow">
    <p:comb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4"/>
          <p:cNvSpPr txBox="1"/>
          <p:nvPr/>
        </p:nvSpPr>
        <p:spPr>
          <a:xfrm>
            <a:off x="1187280" y="477720"/>
            <a:ext cx="698508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גם אנחנו יכולים לעזור- 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להתפלל,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לנסוע לחזק את התושבים,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לשלוח מכתבי עידוד,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להפיץ מייל זה!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21:19:18Z</dcterms:created>
  <dc:creator>מחוז דן</dc:creator>
  <dc:description/>
  <dc:language>en-US</dc:language>
  <cp:lastModifiedBy>נוה חנה</cp:lastModifiedBy>
  <dcterms:modified xsi:type="dcterms:W3CDTF">2009-10-29T09:56:13Z</dcterms:modified>
  <cp:revision>4</cp:revision>
  <dc:subject/>
  <dc:title>שקופית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